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C43-8531-456F-9013-C44F32A6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CD2-05E0-4E0F-B7D2-2716FF0E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63B-F150-4074-B58B-EB9B520D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8D4-323B-4D84-A88A-F9BE42BF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B64-6FF0-4800-830F-FF4F001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FE0-6E16-4D60-B903-EE3EB00B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59C-1C04-4CE2-A6DC-65BCF0B6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A8A-7030-4B80-BA91-AD5E7829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7D0-D381-44FB-8904-70A2EFF2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A9F-BAD6-4070-A6AB-75DDF7F3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988-B8AA-46FB-8996-FA1726D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2FA-8CD2-4F98-BB01-F725112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34.jpg"/>
          <p:cNvPicPr/>
          <p:nvPr/>
        </p:nvPicPr>
        <p:blipFill>
          <a:blip r:embed="rId2"/>
          <a:srcRect l="390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EB60-3534-465D-8A78-60E8D61C1F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-7128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179280" y="1600200"/>
            <a:ext cx="37450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第</a:t>
            </a:r>
            <a:r>
              <a:rPr b="1" lang="en-US" sz="46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36</a:t>
            </a:r>
            <a:r>
              <a:rPr b="1" lang="zh-CN" sz="46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届北京青少年科技创新大赛</a:t>
            </a:r>
            <a:br>
              <a:rPr sz="4600"/>
            </a:br>
            <a:r>
              <a:rPr b="1" lang="zh-CN" sz="46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上申报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E:\然然\2010年\30届大赛\个性化邮票\创新大赛会标.jpg"/>
          <p:cNvPicPr/>
          <p:nvPr/>
        </p:nvPicPr>
        <p:blipFill>
          <a:blip r:embed="rId2"/>
          <a:stretch/>
        </p:blipFill>
        <p:spPr>
          <a:xfrm>
            <a:off x="1258920" y="0"/>
            <a:ext cx="15080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5" descr="3_副本.png"/>
          <p:cNvPicPr/>
          <p:nvPr/>
        </p:nvPicPr>
        <p:blipFill>
          <a:blip r:embed="rId1"/>
          <a:stretch/>
        </p:blipFill>
        <p:spPr>
          <a:xfrm>
            <a:off x="1403280" y="1268280"/>
            <a:ext cx="61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4" descr="4_副本.png"/>
          <p:cNvPicPr/>
          <p:nvPr/>
        </p:nvPicPr>
        <p:blipFill>
          <a:blip r:embed="rId1"/>
          <a:stretch/>
        </p:blipFill>
        <p:spPr>
          <a:xfrm>
            <a:off x="684360" y="1197000"/>
            <a:ext cx="6946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5" descr="6_副本.png"/>
          <p:cNvPicPr/>
          <p:nvPr/>
        </p:nvPicPr>
        <p:blipFill>
          <a:blip r:embed="rId1"/>
          <a:stretch/>
        </p:blipFill>
        <p:spPr>
          <a:xfrm>
            <a:off x="1258920" y="1268280"/>
            <a:ext cx="62960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4" descr="8_副本.png"/>
          <p:cNvPicPr/>
          <p:nvPr/>
        </p:nvPicPr>
        <p:blipFill>
          <a:blip r:embed="rId1"/>
          <a:stretch/>
        </p:blipFill>
        <p:spPr>
          <a:xfrm>
            <a:off x="611280" y="1268280"/>
            <a:ext cx="6948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11_副本.png"/>
          <p:cNvPicPr/>
          <p:nvPr/>
        </p:nvPicPr>
        <p:blipFill>
          <a:blip r:embed="rId1"/>
          <a:stretch/>
        </p:blipFill>
        <p:spPr>
          <a:xfrm>
            <a:off x="1403280" y="1268280"/>
            <a:ext cx="61930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4" descr="10_副本.png"/>
          <p:cNvPicPr/>
          <p:nvPr/>
        </p:nvPicPr>
        <p:blipFill>
          <a:blip r:embed="rId1"/>
          <a:stretch/>
        </p:blipFill>
        <p:spPr>
          <a:xfrm>
            <a:off x="1276200" y="1197000"/>
            <a:ext cx="62150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5" descr="9_副本.png"/>
          <p:cNvPicPr/>
          <p:nvPr/>
        </p:nvPicPr>
        <p:blipFill>
          <a:blip r:embed="rId1"/>
          <a:stretch/>
        </p:blipFill>
        <p:spPr>
          <a:xfrm>
            <a:off x="1116000" y="1197000"/>
            <a:ext cx="6551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4" descr="12_副本.png"/>
          <p:cNvPicPr/>
          <p:nvPr/>
        </p:nvPicPr>
        <p:blipFill>
          <a:blip r:embed="rId1"/>
          <a:stretch/>
        </p:blipFill>
        <p:spPr>
          <a:xfrm>
            <a:off x="1258920" y="1125360"/>
            <a:ext cx="6318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5" descr="13_副本.png"/>
          <p:cNvPicPr/>
          <p:nvPr/>
        </p:nvPicPr>
        <p:blipFill>
          <a:blip r:embed="rId1"/>
          <a:stretch/>
        </p:blipFill>
        <p:spPr>
          <a:xfrm>
            <a:off x="684360" y="1268280"/>
            <a:ext cx="69832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4" descr="14_副本.png"/>
          <p:cNvPicPr/>
          <p:nvPr/>
        </p:nvPicPr>
        <p:blipFill>
          <a:blip r:embed="rId1"/>
          <a:stretch/>
        </p:blipFill>
        <p:spPr>
          <a:xfrm>
            <a:off x="1403280" y="1268280"/>
            <a:ext cx="6121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Administrator\桌面\ZCOOL_Floral Templates2.png"/>
          <p:cNvPicPr/>
          <p:nvPr/>
        </p:nvPicPr>
        <p:blipFill>
          <a:blip r:embed="rId1"/>
          <a:stretch/>
        </p:blipFill>
        <p:spPr>
          <a:xfrm>
            <a:off x="1123920" y="1841400"/>
            <a:ext cx="798480" cy="633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Administrator\桌面\ZCOOL_Floral Templates2.png"/>
          <p:cNvPicPr/>
          <p:nvPr/>
        </p:nvPicPr>
        <p:blipFill>
          <a:blip r:embed="rId2"/>
          <a:stretch/>
        </p:blipFill>
        <p:spPr>
          <a:xfrm>
            <a:off x="1123920" y="2592360"/>
            <a:ext cx="798480" cy="63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istrator\桌面\ZCOOL_Floral Templates2.png"/>
          <p:cNvPicPr/>
          <p:nvPr/>
        </p:nvPicPr>
        <p:blipFill>
          <a:blip r:embed="rId3"/>
          <a:stretch/>
        </p:blipFill>
        <p:spPr>
          <a:xfrm>
            <a:off x="1123920" y="3328920"/>
            <a:ext cx="798480" cy="635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250920" y="62064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需要网上申报的竞赛类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28760" y="486576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以上竞赛项目，按照名额分配表和登记表（附件</a:t>
            </a:r>
            <a:r>
              <a:rPr b="1" lang="en-US" sz="32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和附件</a:t>
            </a:r>
            <a:r>
              <a:rPr b="1" lang="en-US" sz="32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）生成授权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桌面\ZCOOL_Floral Templates2.png"/>
          <p:cNvPicPr/>
          <p:nvPr/>
        </p:nvPicPr>
        <p:blipFill>
          <a:blip r:embed="rId4"/>
          <a:stretch/>
        </p:blipFill>
        <p:spPr>
          <a:xfrm rot="4613400">
            <a:off x="1295640" y="4040640"/>
            <a:ext cx="480960" cy="698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2347920" y="1841400"/>
            <a:ext cx="45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少年儿童科学幻想绘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3088080" y="25606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青少年科技实践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3526200" y="32814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优秀科技辅导员（网申时勾选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3252240" y="4073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科技辅导员科技创新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87400" y="6238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上申请工作注意事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00040" y="150012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网上申报第</a:t>
            </a:r>
            <a:r>
              <a:rPr b="1" lang="en-US" sz="32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项中的项目材料中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必须</a:t>
            </a:r>
            <a:r>
              <a:rPr b="1" lang="zh-CN" sz="32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上传查新报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查新报告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所有参赛项目应提供查新报告。选手可从“学生科技网”网站上下载查新报告模板（见附件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9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），也可自行或在辅导教师指导下对类似项目进行检索，并说明自己的项目于他人的项目相比有哪些创新之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操作步骤及时间安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第一阶段：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2015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日－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2015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7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区县网申管理员登录查询授权号（电子邮件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申报者从区县网申管理员处获得授权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申报者登录“学生科技网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http://www.student.gov.c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申报者用户注册（登陆后可修改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申报者登录系统（帐号密码要牢记，进入全国比赛时都会用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申报者在线申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区县管理人员审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第二阶段：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2015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21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日－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2016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市级管理人员审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3" descr="0.1.png"/>
          <p:cNvPicPr/>
          <p:nvPr/>
        </p:nvPicPr>
        <p:blipFill>
          <a:blip r:embed="rId1"/>
          <a:stretch/>
        </p:blipFill>
        <p:spPr>
          <a:xfrm>
            <a:off x="1763640" y="1341360"/>
            <a:ext cx="554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片 5" descr="0.2_副本.png"/>
          <p:cNvPicPr/>
          <p:nvPr/>
        </p:nvPicPr>
        <p:blipFill>
          <a:blip r:embed="rId1"/>
          <a:stretch/>
        </p:blipFill>
        <p:spPr>
          <a:xfrm>
            <a:off x="1943280" y="1268280"/>
            <a:ext cx="5537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4" descr="0.3.png"/>
          <p:cNvPicPr/>
          <p:nvPr/>
        </p:nvPicPr>
        <p:blipFill>
          <a:blip r:embed="rId1"/>
          <a:stretch/>
        </p:blipFill>
        <p:spPr>
          <a:xfrm>
            <a:off x="1476360" y="1413000"/>
            <a:ext cx="5975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片 5" descr="1_副本.png"/>
          <p:cNvPicPr/>
          <p:nvPr/>
        </p:nvPicPr>
        <p:blipFill>
          <a:blip r:embed="rId1"/>
          <a:stretch/>
        </p:blipFill>
        <p:spPr>
          <a:xfrm>
            <a:off x="1403280" y="1268280"/>
            <a:ext cx="61866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031760" y="476280"/>
            <a:ext cx="7356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仿宋_GB2312"/>
                <a:ea typeface="仿宋_GB2312"/>
              </a:rPr>
              <a:t>网申操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42920" y="1268280"/>
            <a:ext cx="846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4" descr="2_副本.png"/>
          <p:cNvPicPr/>
          <p:nvPr/>
        </p:nvPicPr>
        <p:blipFill>
          <a:blip r:embed="rId1"/>
          <a:stretch/>
        </p:blipFill>
        <p:spPr>
          <a:xfrm>
            <a:off x="1476360" y="1268280"/>
            <a:ext cx="61182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5:42:26Z</dcterms:created>
  <dc:creator>Administrator</dc:creator>
  <dc:description/>
  <dc:language>en-US</dc:language>
  <cp:lastModifiedBy>print</cp:lastModifiedBy>
  <cp:lastPrinted>1899-12-30T00:00:00Z</cp:lastPrinted>
  <dcterms:modified xsi:type="dcterms:W3CDTF">2015-12-09T06:36:2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